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CEA-523A-44D3-9BBF-2D732F1A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A55-9F53-4AA1-A51B-54358DD5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7DE-88F5-45A4-A65C-53066D51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0B8-26A1-44C9-A662-95C556B5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6484-4FF7-422D-942A-556B264A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3FE5-B7BD-498F-9295-6874D71A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12ED-954D-47C9-B272-3557EF26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9654-7372-4EEA-B243-C7485B56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031B-FC77-4D53-A5A0-F6FAC63E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28B6-E0F6-4BEF-815B-960F7EBB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8CD2-3960-4D10-B498-64E8B183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1C7-C7F6-4A01-AB26-2B50FCF6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F0D6-B153-4336-82FA-AE6E6764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EC87-AA63-4C4E-80F2-734F767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BB3F-D0D9-4841-810B-F7313A1F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61FF-562A-4A0E-A975-C7790330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65F6-BCEA-4358-99E6-D0657C01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FB8-0A7B-4F45-9729-9B4C4D3A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9D4-D450-4BA8-8402-A59962C6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077-8BAD-4FA3-8DD9-6FEE399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010-3C5E-428A-A7D7-2F3257D1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113-0912-4863-B15E-6C1FD990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670-7F36-410B-BEFB-280C985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219-1589-4478-AD95-2BF7BB3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6555-8F13-4048-80D9-3CD405DE604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38CD-C565-4207-B1CE-A0C3D85DEAA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Ana Selby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2404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981080" y="380880"/>
            <a:ext cx="6782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t a problem, situation, question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9996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61760" y="1341000"/>
            <a:ext cx="7786440" cy="4648680"/>
            <a:chOff x="761760" y="1341000"/>
            <a:chExt cx="7786440" cy="4648680"/>
          </a:xfrm>
        </p:grpSpPr>
        <p:sp>
          <p:nvSpPr>
            <p:cNvPr id="217" name=""/>
            <p:cNvSpPr/>
            <p:nvPr/>
          </p:nvSpPr>
          <p:spPr>
            <a:xfrm>
              <a:off x="3809880" y="1417320"/>
              <a:ext cx="1714680" cy="1218960"/>
            </a:xfrm>
            <a:custGeom>
              <a:avLst/>
              <a:gdLst>
                <a:gd name="textAreaLeft" fmla="*/ 0 w 1714680"/>
                <a:gd name="textAreaRight" fmla="*/ 1715040 w 17146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4350600">
              <a:off x="6972480" y="3284280"/>
              <a:ext cx="1752480" cy="9144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0800000">
              <a:off x="3581280" y="4617720"/>
              <a:ext cx="1752480" cy="120492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411480" y="3062880"/>
              <a:ext cx="1905120" cy="12049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99840" y="1417320"/>
              <a:ext cx="2057400" cy="148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OBSERVATIONS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cribe </a:t>
              </a:r>
              <a:r>
                <a:rPr b="1" i="1" lang="en-US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objectivel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verything you see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What, when, how, who?)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3600" y="1341000"/>
              <a:ext cx="1981080" cy="148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HYPOTHESIS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ive an educated explanation of the phenomenon (facts)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Why?)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15000" y="4618080"/>
              <a:ext cx="22860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EXPERIMENTATION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f possible, test your hypothesis and, 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rd your 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RESULTS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0360" y="4694040"/>
              <a:ext cx="213372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CONCLUSION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as your hypothesis right? If not, what was wrong?  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24080" y="3093840"/>
              <a:ext cx="32004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HOW TO…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22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USE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ff"/>
                  </a:solidFill>
                  <a:latin typeface="Arial"/>
                  <a:ea typeface="Times New Roman"/>
                </a:rPr>
                <a:t>THE SCIENTIFIC METHOD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99960" y="7227720"/>
            <a:ext cx="301788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040" y="6171480"/>
            <a:ext cx="305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Times New Roman"/>
              </a:rPr>
              <a:t>[i] Created by  Ana Selby, How to…Science Clinics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4:24:48Z</dcterms:created>
  <dc:creator> </dc:creator>
  <dc:description/>
  <dc:language>en-US</dc:language>
  <cp:lastModifiedBy> </cp:lastModifiedBy>
  <dcterms:modified xsi:type="dcterms:W3CDTF">2008-08-04T14:34:51Z</dcterms:modified>
  <cp:revision>1</cp:revision>
  <dc:subject/>
  <dc:title>Diapositiva 1</dc:title>
</cp:coreProperties>
</file>